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520" y="3702960"/>
            <a:ext cx="81532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70296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1680" y="370296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90400" y="175248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6920" y="175248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520" y="370296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90400" y="370296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6920" y="370296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17524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520" y="370296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520" y="17524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11680" y="370296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702960"/>
            <a:ext cx="81532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520" y="3702960"/>
            <a:ext cx="81532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70296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11680" y="370296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90400" y="175248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6920" y="175248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3520" y="370296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90400" y="370296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46920" y="370296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520" y="370296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1680" y="370296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702960"/>
            <a:ext cx="81532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7524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2860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5600" indent="-22860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4640" indent="-22860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14640" indent="-22860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14640" indent="-22860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76673" b="0"/>
          <a:stretch/>
        </p:blipFill>
        <p:spPr>
          <a:xfrm>
            <a:off x="0" y="3368520"/>
            <a:ext cx="2133720" cy="348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rcRect l="0" t="0" r="76673" b="0"/>
          <a:stretch/>
        </p:blipFill>
        <p:spPr>
          <a:xfrm>
            <a:off x="0" y="3368520"/>
            <a:ext cx="2133720" cy="348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370320"/>
            <a:ext cx="9145440" cy="3487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6212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articiple cla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32004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(They’re not that bad re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370320"/>
            <a:ext cx="9145440" cy="3487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6094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3 types of participle cl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1371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t parti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19810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ect parti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5909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 parti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3809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match up the examples be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4648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648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c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1371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c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3370320"/>
            <a:ext cx="9145440" cy="3487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t participle cla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523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1337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ced with an angry bull, John decided to jump over the w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2743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Because he was faced with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5812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unded 20 years ago, the club is more popular today than ever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45720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The club, which was founded 20 years ago, is mor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sequ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4572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lative clau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3370320"/>
            <a:ext cx="9145440" cy="3487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90720" y="5335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you rewrite these sentences with a past participle clau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7524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she was pleased with the children’s behaviour, she bought them all an ice c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365760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cinema, which is located in the city centre, is very pop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27432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Pleased with the children’s behaviou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48006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Located in the city centre, the new cinema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370320"/>
            <a:ext cx="9145440" cy="3487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057400" y="6858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ect participle cla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523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21337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ing finished his homework, he went to watch tele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2819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e had finished his homework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6576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ing been told the answers in advance, he did very well in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8769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sequ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4876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cause he had been tol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370320"/>
            <a:ext cx="9145440" cy="3487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90720" y="5335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you rewrite these sentences with a perfect participle clau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752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he had been late for work twice, he decided to catch an earlier t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7432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been late for work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35812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he had completed the marathon, he went home and rested for what was left of th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4800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completed the marathon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370320"/>
            <a:ext cx="9145440" cy="3487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057400" y="6858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nt participle cla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523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2096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iving at the bus stop, we saw an enormous que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3048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arrived at the bus stop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048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3962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having any money, I decided to stay at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4648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sequ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4648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cause I didn’t have any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3370320"/>
            <a:ext cx="9145440" cy="3487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90720" y="5335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you rewrite these sentences with a present participle clau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19051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he looked over his shoulder, he saw the police chasing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6668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oking over his shoulder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3429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he saw the broken glass on the floor, he realised that they had been burg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46483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ing the broken gla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7:03:33Z</dcterms:created>
  <dc:creator>GTI Build</dc:creator>
  <dc:description/>
  <dc:language>en-US</dc:language>
  <cp:lastModifiedBy>steveevans</cp:lastModifiedBy>
  <cp:lastPrinted>2000-03-13T12:12:05Z</cp:lastPrinted>
  <dcterms:modified xsi:type="dcterms:W3CDTF">2006-01-12T18:34:58Z</dcterms:modified>
  <cp:revision>11</cp:revision>
  <dc:subject/>
  <dc:title>No Slide Title</dc:title>
</cp:coreProperties>
</file>